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3.jpeg" ContentType="image/jpeg"/>
  <Override PartName="/ppt/media/image11.png" ContentType="image/png"/>
  <Override PartName="/ppt/media/image60.png" ContentType="image/png"/>
  <Override PartName="/ppt/media/image21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27.png" ContentType="image/png"/>
  <Override PartName="/ppt/media/image61.png" ContentType="image/png"/>
  <Override PartName="/ppt/media/image24.png" ContentType="image/png"/>
  <Override PartName="/ppt/media/image23.wmf" ContentType="image/x-wmf"/>
  <Override PartName="/ppt/media/image51.jpeg" ContentType="image/jpeg"/>
  <Override PartName="/ppt/media/image57.png" ContentType="image/png"/>
  <Override PartName="/ppt/media/image22.png" ContentType="image/png"/>
  <Override PartName="/ppt/media/image7.png" ContentType="image/png"/>
  <Override PartName="/ppt/media/image19.wmf" ContentType="image/x-wmf"/>
  <Override PartName="/ppt/media/image28.png" ContentType="image/png"/>
  <Override PartName="/ppt/media/image59.png" ContentType="image/png"/>
  <Override PartName="/ppt/media/image16.wmf" ContentType="image/x-wmf"/>
  <Override PartName="/ppt/media/image55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5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34.png" ContentType="image/png"/>
  <Override PartName="/ppt/media/image20.png" ContentType="image/png"/>
  <Override PartName="/ppt/media/image37.jpeg" ContentType="image/jpeg"/>
  <Override PartName="/ppt/media/image56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jpeg" ContentType="image/jpeg"/>
  <Override PartName="/ppt/media/image49.jpeg" ContentType="image/jpeg"/>
  <Override PartName="/ppt/media/image50.png" ContentType="image/png"/>
  <Override PartName="/ppt/media/image5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B96D-3D08-4315-B020-0D09858D2A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5677-EBCD-4380-AC26-79510E7309FE}" type="slidenum">
              <a:rPr b="0" i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E6B9-162C-41DA-A21A-E24EB552D046}" type="slidenum">
              <a:rPr b="0" i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967-9C56-4B47-8C59-702A43BC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B6F-9278-4DBB-B22B-3D18CC85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413-03AB-4F5A-B98E-C03C3F15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80D-A6B8-4C9F-A87A-81A4C8C5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F6C1-08F4-4590-BF01-F402215E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F73A-B1F7-4318-BD53-637E888B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2F96-3C1E-43E4-A228-E2161F89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E505-7FC7-4C4E-AA4D-64F594AC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92E9-D183-4EE0-A81D-E9408E79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F6F9-BA15-495C-80A4-CCE7E94C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5C7E-8596-4964-A7A0-B95E3252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4EE-DE95-4275-B54A-43A5DAD1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FA44-C474-4DE4-A353-33A3F10D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043E-F67F-4851-9AE8-E59DEC7E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4361-56A9-4398-816C-F8F0E4B6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A98D-E160-4763-B835-AFB78E3D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5E80-1D21-4192-B8AB-C6778DA6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AA6B1-033D-4906-B5AB-7878D934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883B4-B364-4690-8175-6E9AC81D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6C38C-D811-44E4-8A43-BC224C2F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62CFF-5BB8-470C-A197-D0991B1A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826D2-AE13-4E5A-973B-F9D85A40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D3E-656D-4D1B-B6BF-08D99AF0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4225-AD29-4A25-86CA-0767DFD5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3E9A-B4A8-4C0C-90C0-53840ADA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8FB9-1B64-4718-B3AF-E8C49D4E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B342-14FD-469D-838B-C29AE97E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B218-0707-45B6-81C1-3FC3F2AF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BF210-A948-4C67-9777-18ABF85C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7CEF4-C5A1-4CBD-AFDE-082F6769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18719-ED27-4054-BCE8-33022074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DBDAD-A24A-49A0-B2B5-416481B6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A54C8-C967-4D98-B6DB-5DEBAFB2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480-614C-41A9-925F-281AD411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50CE-87BC-4445-B036-01BD988D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23E3-5575-4347-A776-6FC6D825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EA37A-BC33-4B39-926E-45CD478B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1DB0-221F-49F3-80AD-9D6CCC8B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0037C-7424-4736-AB50-8391A4D2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18258-00F4-4633-98B5-E0126A31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09A4-6018-4574-94A2-4AD0E2D2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C7F50-A9C6-46EE-87E8-B1E73C79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0B792-B971-4DBE-95AA-78D5274E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25D-0FBC-474D-B6E1-E3320857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981-AA6C-4981-B87B-60B099F3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BA8-B291-432B-B5B8-E7500C25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DBE-30EF-4596-8FDB-3317F310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D3B-EE68-4982-8B3D-B198E58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58C1-1F35-4D2A-885D-EAD181B3F641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81A7-BCED-44EC-A18F-41594CF996C3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8BE3-1E9A-4B1B-9411-B5B64D67DB80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D08B-759D-4A32-BC89-63198A798922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fisicapractica.com/fuerza-gravitatoria.php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AutoShape 2" descr=""/>
          <p:cNvPicPr/>
          <p:nvPr/>
        </p:nvPicPr>
        <p:blipFill>
          <a:blip r:embed="rId1"/>
          <a:stretch/>
        </p:blipFill>
        <p:spPr>
          <a:xfrm>
            <a:off x="73080" y="1316160"/>
            <a:ext cx="8753400" cy="2365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6212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mic Sans MS"/>
              </a:rPr>
              <a:t>Objetivo: reconocer las fuerzas y describir sus efecto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1 Título" descr=""/>
          <p:cNvPicPr/>
          <p:nvPr/>
        </p:nvPicPr>
        <p:blipFill>
          <a:blip r:embed="rId1"/>
          <a:stretch/>
        </p:blipFill>
        <p:spPr>
          <a:xfrm>
            <a:off x="55440" y="401760"/>
            <a:ext cx="8686800" cy="153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8232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Diagrama de cuerpo libre DC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mic Sans MS"/>
              </a:rPr>
              <a:t>Un diagrama de cuerpo libre (DCL) es un diagrama vectorial que describe todas las fuerzas que actúan sobre un cuerpo u objeto en partic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mic Sans MS"/>
              </a:rPr>
              <a:t>Consiste en colocar la partícula en el origen de un plano de coordenadas, y representar a las fuerzas que actúan sobre ella por medio de los vectores correspondientes, todos concurrentes en el orig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1 Título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8686800" cy="152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297000" y="2394000"/>
            <a:ext cx="84643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jemplo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4198680" cy="2428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5508720" y="2781360"/>
            <a:ext cx="329544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14480" y="49536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4617b"/>
                </a:solidFill>
                <a:latin typeface="Comic Sans MS"/>
              </a:rPr>
              <a:t>Resumen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500040" y="1538280"/>
            <a:ext cx="81439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AutoShape 2" descr=""/>
          <p:cNvPicPr/>
          <p:nvPr/>
        </p:nvPicPr>
        <p:blipFill>
          <a:blip r:embed="rId1"/>
          <a:stretch/>
        </p:blipFill>
        <p:spPr>
          <a:xfrm>
            <a:off x="23760" y="1316160"/>
            <a:ext cx="82789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omic Sans MS"/>
              </a:rPr>
              <a:t>1. El pes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>
            <a:alphaModFix amt="32000"/>
          </a:blip>
          <a:stretch/>
        </p:blipFill>
        <p:spPr>
          <a:xfrm>
            <a:off x="762120" y="1935000"/>
            <a:ext cx="7619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4617b"/>
                </a:solidFill>
                <a:latin typeface="Comic Sans MS"/>
              </a:rPr>
              <a:t>El pes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3772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Tierra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= 80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kg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x 10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m/s</a:t>
            </a:r>
            <a:r>
              <a:rPr b="1" i="1" lang="es-E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= 800 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61720" y="43002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un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= 80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kg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x 1,6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m/s</a:t>
            </a:r>
            <a:r>
              <a:rPr b="1" i="1" lang="es-E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= 128 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92360" y="1412640"/>
            <a:ext cx="5112000" cy="1353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alculo del peso de un objeto de 80 Kg. en la Tierra y en la Lun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48340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92504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Observa la siguiente imagen. Luego, responde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3772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¿En que situaciones se ejercen fuerz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37720" y="43002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¿Qué efectos provocan las fuerzas que reconocist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859280" y="2119320"/>
            <a:ext cx="414828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1952640" y="2852640"/>
            <a:ext cx="3914640" cy="27561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34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erza de roce o fricción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 producida entre cuerpos en contacto, y que por su naturaleza oponen resistencia a cualquier tipo de movimiento de uno respecto al otro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xisten tres tipos: la fuerza de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roce estático,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fuerza de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roce cinético 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</a:rPr>
              <a:t>y fuerza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 de roce en fluidos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CL" sz="4400" spc="-1" strike="noStrike">
                <a:solidFill>
                  <a:srgbClr val="04617b"/>
                </a:solidFill>
                <a:latin typeface="Comic Sans MS"/>
              </a:rPr>
              <a:t>2. El roc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1 Llamada ovalada"/>
          <p:cNvSpPr/>
          <p:nvPr/>
        </p:nvSpPr>
        <p:spPr>
          <a:xfrm>
            <a:off x="3909960" y="2421000"/>
            <a:ext cx="1873440" cy="936720"/>
          </a:xfrm>
          <a:prstGeom prst="wedgeEllipseCallout">
            <a:avLst>
              <a:gd name="adj1" fmla="val -58254"/>
              <a:gd name="adj2" fmla="val 37129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ff0000"/>
                </a:solidFill>
                <a:latin typeface="Constantia"/>
              </a:rPr>
              <a:t>La fuerza de roce NO depende del área de contacto entre los cuerpos</a:t>
            </a:r>
            <a:endParaRPr b="0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9" descr="Roce009"/>
          <p:cNvPicPr/>
          <p:nvPr/>
        </p:nvPicPr>
        <p:blipFill>
          <a:blip r:embed="rId1"/>
          <a:stretch/>
        </p:blipFill>
        <p:spPr>
          <a:xfrm>
            <a:off x="631800" y="3429000"/>
            <a:ext cx="4248000" cy="20541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4617b"/>
                </a:solidFill>
                <a:latin typeface="Comic Sans MS"/>
              </a:rPr>
              <a:t>2ª. El roce estátic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11280" y="1915920"/>
            <a:ext cx="76183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erza de roce estátic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Es la que se opone a que un objeto inicie un deslizamiento. Depende de la "rugosidad" que hay entre las superficie de contact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6" descr="http://www.ing.uc.edu.ve/ocontrer/la_mal_llamada_fuerza_de_roce_estatico_archivos/image002.gif"/>
          <p:cNvPicPr/>
          <p:nvPr/>
        </p:nvPicPr>
        <p:blipFill>
          <a:blip r:embed="rId2"/>
          <a:stretch/>
        </p:blipFill>
        <p:spPr>
          <a:xfrm>
            <a:off x="5103720" y="3632040"/>
            <a:ext cx="336240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4617b"/>
                </a:solidFill>
                <a:latin typeface="Comic Sans MS"/>
              </a:rPr>
              <a:t>Roce estátic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4940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fuerza de roce va aumentando a medida que lo hace la fuerza aplicada sobre el objeto. Finalmente, la fuerza aplicada será lo suficientemente grande como para vencer el roce y logrará mover el cuerpo. En este punto, el valor del roce es máxim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 =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µ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. 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5 Llamada rectangular"/>
          <p:cNvSpPr/>
          <p:nvPr/>
        </p:nvSpPr>
        <p:spPr>
          <a:xfrm>
            <a:off x="2719440" y="3681360"/>
            <a:ext cx="1150920" cy="647640"/>
          </a:xfrm>
          <a:prstGeom prst="wedgeRectCallout">
            <a:avLst>
              <a:gd name="adj1" fmla="val -100259"/>
              <a:gd name="adj2" fmla="val 91546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omic Sans MS"/>
              </a:rPr>
              <a:t>Fuerza de roc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6 Llamada rectangular"/>
          <p:cNvSpPr/>
          <p:nvPr/>
        </p:nvSpPr>
        <p:spPr>
          <a:xfrm>
            <a:off x="1787400" y="5599080"/>
            <a:ext cx="2082960" cy="854280"/>
          </a:xfrm>
          <a:prstGeom prst="wedgeRectCallout">
            <a:avLst>
              <a:gd name="adj1" fmla="val -1662"/>
              <a:gd name="adj2" fmla="val -98685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omic Sans MS"/>
              </a:rPr>
              <a:t>Coeficiente de roce   estático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7 Llamada rectangular"/>
          <p:cNvSpPr/>
          <p:nvPr/>
        </p:nvSpPr>
        <p:spPr>
          <a:xfrm>
            <a:off x="4443480" y="4329000"/>
            <a:ext cx="1150920" cy="647640"/>
          </a:xfrm>
          <a:prstGeom prst="wedgeRectCallout">
            <a:avLst>
              <a:gd name="adj1" fmla="val -128087"/>
              <a:gd name="adj2" fmla="val 36574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omic Sans MS"/>
              </a:rPr>
              <a:t>Fuerza Norma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http://3.bp.blogspot.com/-BAtmshEVHpE/URA3nZzuAOI/AAAAAAAAAqk/vi6Tjxr61Zo/s640/FUERZA+DE+ROZAMIENTO+2.JPG"/>
          <p:cNvPicPr/>
          <p:nvPr/>
        </p:nvPicPr>
        <p:blipFill>
          <a:blip r:embed="rId1"/>
          <a:stretch/>
        </p:blipFill>
        <p:spPr>
          <a:xfrm>
            <a:off x="5508720" y="3789360"/>
            <a:ext cx="3224160" cy="2446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4617b"/>
                </a:solidFill>
                <a:latin typeface="Comic Sans MS"/>
              </a:rPr>
              <a:t>2</a:t>
            </a:r>
            <a:r>
              <a:rPr b="0" lang="es-ES" sz="4400" spc="-1" strike="noStrike" baseline="30000">
                <a:solidFill>
                  <a:srgbClr val="04617b"/>
                </a:solidFill>
                <a:latin typeface="Comic Sans MS"/>
              </a:rPr>
              <a:t>b</a:t>
            </a:r>
            <a:r>
              <a:rPr b="0" lang="es-ES" sz="4400" spc="-1" strike="noStrike">
                <a:solidFill>
                  <a:srgbClr val="04617b"/>
                </a:solidFill>
                <a:latin typeface="Comic Sans MS"/>
              </a:rPr>
              <a:t>. El roce cinétic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5000"/>
            <a:ext cx="8229600" cy="17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erza de roce cinétic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: Es la que se opone al movimiento de un objeto que ya está en movimiento. Depende, también, de la "rugosidad" que hay entre las superficies de contacto y tiene un valor menor al roce estático. El modulo es similar a la expresión anterior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132000" y="4581360"/>
            <a:ext cx="129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1312920" y="3789360"/>
            <a:ext cx="36385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4400" spc="-1" strike="noStrike">
                <a:solidFill>
                  <a:srgbClr val="04617b"/>
                </a:solidFill>
                <a:latin typeface="Comic Sans MS"/>
              </a:rPr>
              <a:t>2</a:t>
            </a:r>
            <a:r>
              <a:rPr b="0" lang="es-ES" sz="4400" spc="-1" strike="noStrike" baseline="30000">
                <a:solidFill>
                  <a:srgbClr val="04617b"/>
                </a:solidFill>
                <a:latin typeface="Comic Sans MS"/>
              </a:rPr>
              <a:t>c</a:t>
            </a:r>
            <a:r>
              <a:rPr b="0" lang="es-ES" sz="4400" spc="-1" strike="noStrike">
                <a:solidFill>
                  <a:srgbClr val="04617b"/>
                </a:solidFill>
                <a:latin typeface="Comic Sans MS"/>
              </a:rPr>
              <a:t> Roce en fluido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erza de roce con fluido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(aire en general): Es la que se opone al movimiento de un objeto que está en movimiento en el aire (fluido). Depende de dos factores; la velocidad del objeto y la forma aerodinámica del objeto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7" descr="Roce007"/>
          <p:cNvPicPr/>
          <p:nvPr/>
        </p:nvPicPr>
        <p:blipFill>
          <a:blip r:embed="rId1"/>
          <a:stretch/>
        </p:blipFill>
        <p:spPr>
          <a:xfrm>
            <a:off x="1692360" y="3933720"/>
            <a:ext cx="1457280" cy="21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://3.bp.blogspot.com/_ziw5dl3q0ns/SkiudgpSCkI/AAAAAAAAC48/2vY-Ht3O4jE/s400/dallara+f1.jpg"/>
          <p:cNvPicPr/>
          <p:nvPr/>
        </p:nvPicPr>
        <p:blipFill>
          <a:blip r:embed="rId2"/>
          <a:stretch/>
        </p:blipFill>
        <p:spPr>
          <a:xfrm>
            <a:off x="4859280" y="4221000"/>
            <a:ext cx="38098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4617b"/>
                </a:solidFill>
                <a:latin typeface="Comic Sans MS"/>
              </a:rPr>
              <a:t>Fuerza de roce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s fuerzas de roce pueden ser útiles o no. Para un paracaidista la fuerza de roce es muy importante. Para un ciclista, la fuerza de roce con el aire es un impedimento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1"/>
          <a:stretch/>
        </p:blipFill>
        <p:spPr>
          <a:xfrm>
            <a:off x="3851280" y="3429000"/>
            <a:ext cx="5189400" cy="2160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http://l.thumbs.canstockphoto.com/canstock7048800.jpg"/>
          <p:cNvPicPr/>
          <p:nvPr/>
        </p:nvPicPr>
        <p:blipFill>
          <a:blip r:embed="rId2"/>
          <a:stretch/>
        </p:blipFill>
        <p:spPr>
          <a:xfrm rot="21072000">
            <a:off x="1087200" y="3588840"/>
            <a:ext cx="22939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4617b"/>
                </a:solidFill>
                <a:latin typeface="Comic Sans MS"/>
              </a:rPr>
              <a:t>3. La fuerza normal (Fn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71360" y="2090880"/>
            <a:ext cx="4184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fuerza normal es aquella que ejerce una superficie como reacción a un cuerpo que ejerce una fuerza sobre ella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i la superficie es horizontal  la fuerza normal es igual al </a:t>
            </a:r>
            <a:r>
              <a:rPr b="0" lang="es-ES" sz="2000" spc="-1" strike="noStrike" u="sng">
                <a:solidFill>
                  <a:srgbClr val="e2d700"/>
                </a:solidFill>
                <a:uFillTx/>
                <a:latin typeface="Comic Sans MS"/>
                <a:hlinkClick r:id="rId1"/>
              </a:rPr>
              <a:t>pes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pero en sentido contrari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fuerza normal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O es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un par de reacción del peso, sino una reacción de la superficie a la fuerza que un cuerpo ejerce sobre ella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38530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4617b"/>
                </a:solidFill>
                <a:latin typeface="Comic Sans MS"/>
              </a:rPr>
              <a:t>4. La tensió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La tensión es una fuerza que convencionalmente aparece siempre asociada a situaciones en las que se tira de un cuerpo con ayuda de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un cable o de una cuerda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Estos cables o cuerdas cumplen con dos condiciones esenciales, son de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masa despreciables</a:t>
            </a:r>
            <a:r>
              <a:rPr b="0" lang="es-E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se asumen como prácticamente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inextensibles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Picture 2" descr="http://www.escolares.net/wp-content/uploads/figura-3-1.jpg"/>
          <p:cNvPicPr/>
          <p:nvPr/>
        </p:nvPicPr>
        <p:blipFill>
          <a:blip r:embed="rId1"/>
          <a:stretch/>
        </p:blipFill>
        <p:spPr>
          <a:xfrm>
            <a:off x="4800600" y="1368360"/>
            <a:ext cx="4343400" cy="2276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http://3.bp.blogspot.com/-ZZfQzYFVJCo/UI9NcUa6mnI/AAAAAAAAALc/BNbE3V7LYzk/s1600/fuerzas-concurrentes+(1).jpg"/>
          <p:cNvPicPr/>
          <p:nvPr/>
        </p:nvPicPr>
        <p:blipFill>
          <a:blip r:embed="rId2"/>
          <a:stretch/>
        </p:blipFill>
        <p:spPr>
          <a:xfrm>
            <a:off x="5435640" y="3357720"/>
            <a:ext cx="283680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1 Título" descr=""/>
          <p:cNvPicPr/>
          <p:nvPr/>
        </p:nvPicPr>
        <p:blipFill>
          <a:blip r:embed="rId1"/>
          <a:stretch/>
        </p:blipFill>
        <p:spPr>
          <a:xfrm>
            <a:off x="122400" y="706320"/>
            <a:ext cx="8643600" cy="147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1403280" y="1989000"/>
            <a:ext cx="6531120" cy="1871640"/>
          </a:xfrm>
          <a:prstGeom prst="rect">
            <a:avLst/>
          </a:prstGeom>
          <a:ln w="0">
            <a:noFill/>
          </a:ln>
        </p:spPr>
      </p:pic>
      <p:sp>
        <p:nvSpPr>
          <p:cNvPr id="287" name="2 CuadroTexto"/>
          <p:cNvSpPr/>
          <p:nvPr/>
        </p:nvSpPr>
        <p:spPr>
          <a:xfrm>
            <a:off x="683640" y="4287960"/>
            <a:ext cx="8187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Si la cuerda no se deforma y se considera que no tiene masa, entonce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es-ES_tradnl" sz="2800" spc="-1" strike="noStrike">
                <a:solidFill>
                  <a:srgbClr val="000000"/>
                </a:solidFill>
                <a:latin typeface="Comic Sans MS"/>
              </a:rPr>
              <a:t> = T</a:t>
            </a: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5. Fuerza elástica: Ley Hook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5840" y="2421000"/>
            <a:ext cx="2847960" cy="2590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3203280" y="1699920"/>
            <a:ext cx="5761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Al aplicar una fuerza en el muelle (resorte), este                    se alarga. La deformación que se produce (x-x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) es    directamente proporcional a la fuerza que le aplicamos”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Constantia"/>
              </a:rPr>
              <a:t>F=k⋅(x−x 0 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•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F es el módulo de la fuerza que se aplica sobre el muel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•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 es la constante elástica del muelle, que relaciona fuerza y alargamiento. Cuanto mayor es su valor más trabajo costará estirar el muell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•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x0 es la longitud del muelle sin aplicar la fuerz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•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x es la longitud del muelle con la fuerza aplicad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5680" y="620280"/>
            <a:ext cx="79246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omic Sans MS"/>
              </a:rPr>
              <a:t>Entonces: ¿Qué son las fuerzas?</a:t>
            </a:r>
            <a:br>
              <a:rPr sz="4400"/>
            </a:br>
            <a:br>
              <a:rPr sz="4400"/>
            </a:br>
            <a:r>
              <a:rPr b="1" lang="es-CL" sz="2000" spc="-1" strike="noStrike">
                <a:solidFill>
                  <a:srgbClr val="04617b"/>
                </a:solidFill>
                <a:latin typeface="Comic Sans MS"/>
              </a:rPr>
              <a:t>Son algo que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7640" y="2349360"/>
            <a:ext cx="287964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Produce deformación en el objeto que recibe una fuerz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700360" y="2363400"/>
            <a:ext cx="302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Produce cambio de movimiento (aceleraciones) en el objeto que recibe la fuerza</a:t>
            </a: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915160" y="2349360"/>
            <a:ext cx="29779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Puede producir deformación y cambio de velocidad al mismo tiemp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684360" y="3567240"/>
            <a:ext cx="1655640" cy="1550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3411360" y="3875040"/>
            <a:ext cx="2298960" cy="1569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3"/>
          <a:stretch/>
        </p:blipFill>
        <p:spPr>
          <a:xfrm>
            <a:off x="6875640" y="3789360"/>
            <a:ext cx="1479240" cy="1596960"/>
          </a:xfrm>
          <a:prstGeom prst="rect">
            <a:avLst/>
          </a:prstGeom>
          <a:ln w="0">
            <a:noFill/>
          </a:ln>
        </p:spPr>
      </p:pic>
      <p:sp>
        <p:nvSpPr>
          <p:cNvPr id="215" name="1 Rectángulo"/>
          <p:cNvSpPr/>
          <p:nvPr/>
        </p:nvSpPr>
        <p:spPr>
          <a:xfrm>
            <a:off x="461880" y="551664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ff"/>
                </a:solidFill>
                <a:latin typeface="Arial"/>
              </a:rPr>
              <a:t>Definición de Fuerza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la interacción entre dos o mas cuerpos  capaz de producir cambios físicos en los cuerpos tales como: las rupturas, el movimiento y las deformacione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ey de Hook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911160" y="2065320"/>
            <a:ext cx="2859120" cy="3416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386320" y="2141640"/>
            <a:ext cx="2562120" cy="3990960"/>
          </a:xfrm>
          <a:prstGeom prst="rect">
            <a:avLst/>
          </a:prstGeom>
          <a:ln w="0">
            <a:noFill/>
          </a:ln>
        </p:spPr>
      </p:pic>
      <p:sp>
        <p:nvSpPr>
          <p:cNvPr id="294" name="5 Rectángulo"/>
          <p:cNvSpPr/>
          <p:nvPr/>
        </p:nvSpPr>
        <p:spPr>
          <a:xfrm>
            <a:off x="3806280" y="3573360"/>
            <a:ext cx="142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F=k⋅(x-x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8 Rectángulo"/>
          <p:cNvSpPr/>
          <p:nvPr/>
        </p:nvSpPr>
        <p:spPr>
          <a:xfrm>
            <a:off x="100080" y="5678640"/>
            <a:ext cx="3895560" cy="7333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Si al aplicar la fuerza, deformamos permanentemente el muelle decimos que hemos superado </a:t>
            </a: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su límite de elasticidad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4617b"/>
                </a:solidFill>
                <a:latin typeface="Comic Sans MS"/>
              </a:rPr>
              <a:t>Resume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057720" cy="40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3 Título" descr=""/>
          <p:cNvPicPr/>
          <p:nvPr/>
        </p:nvPicPr>
        <p:blipFill>
          <a:blip r:embed="rId1"/>
          <a:stretch/>
        </p:blipFill>
        <p:spPr>
          <a:xfrm>
            <a:off x="371520" y="1371600"/>
            <a:ext cx="8156520" cy="22557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539640" y="386028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mic Sans MS"/>
              </a:rPr>
              <a:t>Objetivo: Explicar la acción de las diversas fuerzas que suelen operar sobre objetos en situaciones de la vida cotidian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omic Sans MS"/>
              </a:rPr>
              <a:t>Principios de Newt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920960"/>
            <a:ext cx="3538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Son tres principios a partir de los cuales se explican la mayor parte de los problemas relativos al movimiento de los cuerpos. Revolucionaron los conceptos básicos de la física y el movimiento de los cuerpos en el universo, en tanto que constituyen los cimientos física clásica en genera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2" descr="http://bibliotecadeinvestigaciones.files.wordpress.com/2010/02/f-cap01_0313.jpg"/>
          <p:cNvPicPr/>
          <p:nvPr/>
        </p:nvPicPr>
        <p:blipFill>
          <a:blip r:embed="rId1"/>
          <a:stretch/>
        </p:blipFill>
        <p:spPr>
          <a:xfrm>
            <a:off x="4140360" y="2062080"/>
            <a:ext cx="48243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s-CL" sz="2800" spc="-1" strike="noStrike">
                <a:solidFill>
                  <a:srgbClr val="ff0000"/>
                </a:solidFill>
                <a:latin typeface="Comic Sans MS"/>
              </a:rPr>
              <a:t>La relevancia de estas leyes radica en dos aspectos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4000" y="15570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* Por un lado, constituyen, junto con la transformación de Galileo, la base de la mecánica clási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4000" y="33573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* Por otro, al combinar estas leyes con la Ley de la gravitación universal, se pueden deducir y explicar las Leyes de Kepler sobre el movimiento planetari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25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7e9632"/>
                </a:solidFill>
                <a:latin typeface="Comic Sans MS"/>
              </a:rPr>
              <a:t>Así, las Leyes de Newton permiten explicar tanto el movimiento de los </a:t>
            </a:r>
            <a:r>
              <a:rPr b="1" i="1" lang="es-CL" sz="1800" spc="-1" strike="noStrike">
                <a:solidFill>
                  <a:srgbClr val="0099ff"/>
                </a:solidFill>
                <a:latin typeface="Comic Sans MS"/>
              </a:rPr>
              <a:t>astros</a:t>
            </a:r>
            <a:r>
              <a:rPr b="1" i="1" lang="es-CL" sz="1800" spc="-1" strike="noStrike">
                <a:solidFill>
                  <a:srgbClr val="7e9632"/>
                </a:solidFill>
                <a:latin typeface="Comic Sans MS"/>
              </a:rPr>
              <a:t>, como los movimientos de los </a:t>
            </a:r>
            <a:r>
              <a:rPr b="1" i="1" lang="es-CL" sz="1800" spc="-1" strike="noStrike">
                <a:solidFill>
                  <a:srgbClr val="0099ff"/>
                </a:solidFill>
                <a:latin typeface="Comic Sans MS"/>
              </a:rPr>
              <a:t>proyectiles</a:t>
            </a:r>
            <a:r>
              <a:rPr b="1" i="1" lang="es-CL" sz="1800" spc="-1" strike="noStrike">
                <a:solidFill>
                  <a:srgbClr val="7e9632"/>
                </a:solidFill>
                <a:latin typeface="Comic Sans MS"/>
              </a:rPr>
              <a:t> creados por el ser humano, así como toda la mecánica de </a:t>
            </a:r>
            <a:r>
              <a:rPr b="1" i="1" lang="es-CL" sz="1800" spc="-1" strike="noStrike">
                <a:solidFill>
                  <a:srgbClr val="0099ff"/>
                </a:solidFill>
                <a:latin typeface="Comic Sans MS"/>
              </a:rPr>
              <a:t>funcionamiento de las máquin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omic Sans MS"/>
              </a:rPr>
              <a:t>Primera Ley de Newton, </a:t>
            </a:r>
            <a:r>
              <a:rPr b="0" lang="es-CL" sz="3600" spc="-1" strike="noStrike">
                <a:solidFill>
                  <a:srgbClr val="ff0000"/>
                </a:solidFill>
                <a:latin typeface="Comic Sans MS"/>
              </a:rPr>
              <a:t>de la Inerc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838080" y="2361960"/>
            <a:ext cx="45259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es-CL" sz="2000" spc="-1" strike="noStrike">
                <a:solidFill>
                  <a:srgbClr val="ff0000"/>
                </a:solidFill>
                <a:latin typeface="Comic Sans MS"/>
              </a:rPr>
              <a:t>Todo cuerpo tiende a mantener su estado de reposo o movimiento uniforme y rectilíneo a no ser que sea obligado a cambiar su estado por fuerzas ejercidas sobre él”.</a:t>
            </a:r>
            <a:r>
              <a:rPr b="0" i="1" lang="es-CL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940000" y="2361960"/>
            <a:ext cx="2590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Por ejemplo, los proyectiles continúan en su movimiento mientras no sean retardados por la resistencia del aire e impulsados hacia abajo por la fuerza de grave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2" descr="http://bogam12.files.wordpress.com/2010/03/4.jpg"/>
          <p:cNvPicPr/>
          <p:nvPr/>
        </p:nvPicPr>
        <p:blipFill>
          <a:blip r:embed="rId1"/>
          <a:stretch/>
        </p:blipFill>
        <p:spPr>
          <a:xfrm>
            <a:off x="2195640" y="4508640"/>
            <a:ext cx="390024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1 Título" descr=""/>
          <p:cNvPicPr/>
          <p:nvPr/>
        </p:nvPicPr>
        <p:blipFill>
          <a:blip r:embed="rId1"/>
          <a:stretch/>
        </p:blipFill>
        <p:spPr>
          <a:xfrm>
            <a:off x="49320" y="401760"/>
            <a:ext cx="8643960" cy="1207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http://4.bp.blogspot.com/-_t8UVXmS0C0/UASi2gtsExI/AAAAAAAAUn4/WQiW3Ti43GE/s1600/primeira-lei-newton.JPG"/>
          <p:cNvPicPr/>
          <p:nvPr/>
        </p:nvPicPr>
        <p:blipFill>
          <a:blip r:embed="rId2"/>
          <a:stretch/>
        </p:blipFill>
        <p:spPr>
          <a:xfrm>
            <a:off x="5219640" y="1484280"/>
            <a:ext cx="3686400" cy="17524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http://1.bp.blogspot.com/-0d_vjNKlzdM/Uy-DPlJ55UI/AAAAAAAAAKs/qHKsCxXpJLY/s1600/inercia2.gif"/>
          <p:cNvPicPr/>
          <p:nvPr/>
        </p:nvPicPr>
        <p:blipFill>
          <a:blip r:embed="rId3"/>
          <a:stretch/>
        </p:blipFill>
        <p:spPr>
          <a:xfrm>
            <a:off x="3417840" y="3124080"/>
            <a:ext cx="3171960" cy="3733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http://2.bp.blogspot.com/-iVY772J7nfA/UzxUXcxx_fI/AAAAAAAAEoI/vnbe4Bz8f28/s1600/ley-de-inercia.jpg"/>
          <p:cNvPicPr/>
          <p:nvPr/>
        </p:nvPicPr>
        <p:blipFill>
          <a:blip r:embed="rId4"/>
          <a:stretch/>
        </p:blipFill>
        <p:spPr>
          <a:xfrm>
            <a:off x="324000" y="1773360"/>
            <a:ext cx="32572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omic Sans MS"/>
              </a:rPr>
              <a:t>Segunda Ley de Newton o </a:t>
            </a:r>
            <a:r>
              <a:rPr b="0" lang="es-CL" sz="3600" spc="-1" strike="noStrike">
                <a:solidFill>
                  <a:srgbClr val="ff0000"/>
                </a:solidFill>
                <a:latin typeface="Comic Sans MS"/>
              </a:rPr>
              <a:t>principio fundamental de la dinám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37720" y="2361960"/>
            <a:ext cx="4094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es-CL" sz="2000" spc="-1" strike="noStrike">
                <a:solidFill>
                  <a:srgbClr val="ff0000"/>
                </a:solidFill>
                <a:latin typeface="Comic Sans MS"/>
              </a:rPr>
              <a:t>fuerza neta aplicada sobre un cuerpo es proporcional a la aceleración que adquiere dicho cuerpo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. La constante de proporcionalidad es la </a:t>
            </a:r>
            <a:r>
              <a:rPr b="0" i="1" lang="es-CL" sz="2000" spc="-1" strike="noStrike">
                <a:solidFill>
                  <a:srgbClr val="ff0000"/>
                </a:solidFill>
                <a:latin typeface="Comic Sans MS"/>
              </a:rPr>
              <a:t>masa del cuerpo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7720" y="4581000"/>
            <a:ext cx="37702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F = m•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292720" y="2361960"/>
            <a:ext cx="3238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a unidad de fuerza es el </a:t>
            </a:r>
            <a:r>
              <a:rPr b="1" i="1" lang="es-CL" sz="20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y se representa por </a:t>
            </a: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Comic Sans MS"/>
              </a:rPr>
              <a:t>Un Newton es la fuerza que hay que ejercer sobre un cuerpo de un kilogramo de masa para que adquiera una aceleración de 1 m/s</a:t>
            </a:r>
            <a:r>
              <a:rPr b="0" i="1" lang="es-CL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s-CL" sz="1800" spc="-1" strike="noStrike">
                <a:solidFill>
                  <a:srgbClr val="000000"/>
                </a:solidFill>
                <a:latin typeface="Comic Sans MS"/>
              </a:rPr>
              <a:t>, o sea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1 N = 1 Kg · 1 m/s</a:t>
            </a:r>
            <a:r>
              <a:rPr b="1" lang="es-CL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9" descr=""/>
          <p:cNvPicPr/>
          <p:nvPr/>
        </p:nvPicPr>
        <p:blipFill>
          <a:blip r:embed="rId1"/>
          <a:stretch/>
        </p:blipFill>
        <p:spPr>
          <a:xfrm>
            <a:off x="1217520" y="4149720"/>
            <a:ext cx="7315200" cy="25052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971640" y="1052280"/>
            <a:ext cx="7758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Comic Sans MS"/>
              </a:rPr>
              <a:t>Si aplicamos el doble de fuerza sobre la caja, su aceleración se duplicar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Comic Sans MS"/>
              </a:rPr>
              <a:t>Si aplicamos el triple de fuerza sobre la caja, su aceleración se triplicará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50480" y="3284640"/>
            <a:ext cx="769788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Comic Sans MS"/>
              </a:rPr>
              <a:t>Si aplicamos una misma fuera F sobre el doble de masa, se producirá la mitad de la aceler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Comic Sans MS"/>
              </a:rPr>
              <a:t>Si aplicamos una misma fuerza F sobre el triple de masa, se producirá un tercio de la aceler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10" descr=""/>
          <p:cNvPicPr/>
          <p:nvPr/>
        </p:nvPicPr>
        <p:blipFill>
          <a:blip r:embed="rId2"/>
          <a:stretch/>
        </p:blipFill>
        <p:spPr>
          <a:xfrm>
            <a:off x="1116000" y="1982880"/>
            <a:ext cx="73152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omic Sans MS"/>
              </a:rPr>
              <a:t>Tercera Ley de Newton </a:t>
            </a:r>
            <a:r>
              <a:rPr b="0" lang="es-CL" sz="3600" spc="-1" strike="noStrike">
                <a:solidFill>
                  <a:srgbClr val="ff0000"/>
                </a:solidFill>
                <a:latin typeface="Comic Sans MS"/>
              </a:rPr>
              <a:t>o principio de acción-reacción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772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Si un cuerpo A ejerce una acción sobre otro cuerpo B, éste realiza sobre A otra acción igual y de sentido contrario.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38080" y="4300200"/>
            <a:ext cx="39499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Por ejemplo, cuando queremos dar un salto hacia arriba, empujamos el suelo para impulsarnos. La reacción del suelo es la que nos hace saltar hacia arrib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579640" y="2420640"/>
            <a:ext cx="2592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Comic Sans MS"/>
              </a:rPr>
              <a:t>Hay que destacar que, aunque los pares de acción y reacción tenga el mismo valor y sentidos contrarios, no se anulan entre si, puesto que actúan sobre cuerpos distint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63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1 Título" descr=""/>
          <p:cNvPicPr/>
          <p:nvPr/>
        </p:nvPicPr>
        <p:blipFill>
          <a:blip r:embed="rId1"/>
          <a:stretch/>
        </p:blipFill>
        <p:spPr>
          <a:xfrm>
            <a:off x="96840" y="360360"/>
            <a:ext cx="8645400" cy="11764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https://3raleydenewton.files.wordpress.com/2014/07/3ra_ley_de_newton1.png"/>
          <p:cNvPicPr/>
          <p:nvPr/>
        </p:nvPicPr>
        <p:blipFill>
          <a:blip r:embed="rId2"/>
          <a:stretch/>
        </p:blipFill>
        <p:spPr>
          <a:xfrm>
            <a:off x="250920" y="1628640"/>
            <a:ext cx="3047760" cy="20764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2.bp.blogspot.com/-E4AXcNILmCA/UYhJlGGuEFI/AAAAAAAAADw/FWmAZbIvq9E/s1600/3+ley+newton.JPG"/>
          <p:cNvPicPr/>
          <p:nvPr/>
        </p:nvPicPr>
        <p:blipFill>
          <a:blip r:embed="rId3"/>
          <a:stretch/>
        </p:blipFill>
        <p:spPr>
          <a:xfrm>
            <a:off x="4427640" y="1844640"/>
            <a:ext cx="4495680" cy="2752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"/>
          <p:cNvPicPr/>
          <p:nvPr/>
        </p:nvPicPr>
        <p:blipFill>
          <a:blip r:embed="rId4"/>
          <a:stretch/>
        </p:blipFill>
        <p:spPr>
          <a:xfrm>
            <a:off x="1332000" y="4797360"/>
            <a:ext cx="36097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1 Título" descr=""/>
          <p:cNvPicPr/>
          <p:nvPr/>
        </p:nvPicPr>
        <p:blipFill>
          <a:blip r:embed="rId1"/>
          <a:stretch/>
        </p:blipFill>
        <p:spPr>
          <a:xfrm>
            <a:off x="122400" y="706320"/>
            <a:ext cx="8643600" cy="1476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2"/>
          <a:stretch/>
        </p:blipFill>
        <p:spPr>
          <a:xfrm>
            <a:off x="219240" y="1833480"/>
            <a:ext cx="87055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omic Sans MS"/>
              </a:rPr>
              <a:t>Medición de las fuerz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772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instrumento que se utiliza para medir las fuerzas es el dinamómet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4746600" y="2205000"/>
            <a:ext cx="4367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Medición de las fuerz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7720" y="2361960"/>
            <a:ext cx="3770280" cy="25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a medir las fuerzas existen varias unidades de medid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el S.I es el Newton (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el sistema cegesimal es la Dina (dy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el sistema gravitatorio es el kilopondio (K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N= 100000 Dy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 Kp= 9,8 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Fuerza ne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mic Sans MS"/>
              </a:rPr>
              <a:t>La fuerza neta se define como la suma de todas las fuerzas que actúan sobre un objet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809880" cy="2952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Imagen relacionada"/>
          <p:cNvPicPr/>
          <p:nvPr/>
        </p:nvPicPr>
        <p:blipFill>
          <a:blip r:embed="rId2"/>
          <a:stretch/>
        </p:blipFill>
        <p:spPr>
          <a:xfrm>
            <a:off x="5003640" y="3971880"/>
            <a:ext cx="35719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1 Título" descr=""/>
          <p:cNvPicPr/>
          <p:nvPr/>
        </p:nvPicPr>
        <p:blipFill>
          <a:blip r:embed="rId1"/>
          <a:stretch/>
        </p:blipFill>
        <p:spPr>
          <a:xfrm>
            <a:off x="152280" y="706320"/>
            <a:ext cx="8613720" cy="1446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74840" y="2408400"/>
            <a:ext cx="8172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971640" y="2381400"/>
            <a:ext cx="658332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9:22:12Z</dcterms:created>
  <dc:creator>Usuario</dc:creator>
  <dc:description/>
  <dc:language>en-US</dc:language>
  <cp:lastModifiedBy>SP-06</cp:lastModifiedBy>
  <cp:lastPrinted>2019-07-30T18:57:50Z</cp:lastPrinted>
  <dcterms:modified xsi:type="dcterms:W3CDTF">2020-03-18T17:00:47Z</dcterms:modified>
  <cp:revision>97</cp:revision>
  <dc:subject/>
  <dc:title>EFECTO DE LAS FUERZAS SOBRE LOS CUERPOS</dc:title>
</cp:coreProperties>
</file>