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7A2-534C-4C87-8000-8C1A465F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77-972E-4A0A-BAA9-8938744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B85-504E-4ABA-A629-689A4794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E7E-8D0A-4E3D-8FA2-A90D0C6C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9814-5539-48F6-949A-FD2187B6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B7D-DB8A-4E70-A2F2-44FC1729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0AA-E7F0-4147-802D-D50C79C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3AE-8835-462E-B504-1516EF7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002-518F-49E9-9C9F-47D7019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D67E-2BE6-4AA7-9321-177F733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47D-DF5D-492C-812D-B22E798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82B-924A-470E-A981-9C60808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864-FA03-4054-A490-1348218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CA9-5597-4E51-97B1-4BBBFBC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AEE0-1C0D-479C-92FA-D281518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BDC-CF9F-4CC8-81C6-6AA8D8A3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256-7ED6-4265-B8C7-F6F93E9A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447-DDB9-467E-A406-EF180AF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8A4-A509-4E72-8662-418DCD2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1C2-1122-4609-B930-DCDC8C2E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159-F6B4-4A31-8ECE-19DF281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953-EA18-4F11-BF5C-81FD1A3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9C4-A614-44C1-8079-648E60D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261-679B-48A5-9E25-3554AEA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775-EDDA-4CFC-943C-E0C71014E85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3710-75F2-441F-BFEC-3F0210FA1456}" type="slidenum">
              <a:rPr b="0" lang="es-C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100" spc="-1" strike="noStrike">
                <a:solidFill>
                  <a:srgbClr val="ffffcc"/>
                </a:solidFill>
                <a:latin typeface="Arial"/>
              </a:rPr>
              <a:t>¿Quién mató a Cristián Kustermann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Verdana"/>
              </a:rPr>
              <a:t>Roberto Ampuero, chilen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Verdana"/>
              </a:rPr>
              <a:t>(Valparaíso, 1953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reparar el próximo control de lectura, considerando los aspectos léxicos, temáticos y contextuales más importantes de la obra de R. Ampuer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aut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   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scritor chileno, conocido principalmente por sus novelas policíacas protagonizadas por el detective privado Cayetano Brul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Ampuero, no se limita a la saga de Brulé y escribe también «novelas que abordan la pareja moderna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5" descr="Roberto Ampuero crop.jpg"/>
          <p:cNvPicPr/>
          <p:nvPr/>
        </p:nvPicPr>
        <p:blipFill>
          <a:blip r:embed="rId1"/>
          <a:stretch/>
        </p:blipFill>
        <p:spPr>
          <a:xfrm>
            <a:off x="5514840" y="1844640"/>
            <a:ext cx="2881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aut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Vivió en el exilio desde 1973 hasta 1993, mismo año en el que se publica la primera de sus novelas que tiene como protagonista al detective Cayetano Brul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e ha dedicado a la política, al corretaje de propiedad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Fue ministro de cultura en el gobierno de Sebastián Piñer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ampuero"/>
          <p:cNvPicPr/>
          <p:nvPr/>
        </p:nvPicPr>
        <p:blipFill>
          <a:blip r:embed="rId1"/>
          <a:stretch/>
        </p:blipFill>
        <p:spPr>
          <a:xfrm>
            <a:off x="5940360" y="1125360"/>
            <a:ext cx="28576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yetano Brulé, detective priva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9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Cubano, norteamericano, chil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Llega a Valparaís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Se dedica a investigar crímenes en todas las novelas en las que apare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Es audaz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7" descr="4"/>
          <p:cNvPicPr/>
          <p:nvPr/>
        </p:nvPicPr>
        <p:blipFill>
          <a:blip r:embed="rId1"/>
          <a:stretch/>
        </p:blipFill>
        <p:spPr>
          <a:xfrm>
            <a:off x="5580000" y="1773360"/>
            <a:ext cx="3073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ovela policía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Llamadas también, novelas negras o detectivesc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Tratan temas de investigación en las que el detective es el protagonist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uelen tener escenas de acción y crímenes similares a una películ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on fáciles de le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u principal exponente fue el detective Sherlock Holmes, del escritor Arthur Conan Doy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Agatha Cristhie se dedicó a escribir cuentos y novelas policiales, tambié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Arial"/>
              </a:rPr>
              <a:t>Vocabulario: Busca el significado de las siguientes palabra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Gremi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munis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xili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inuos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Al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erpetr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ponde las sgtes. pregunt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¿Por qué Cayetano Brulé se dedica a investigar el crimen de Kusterman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¿Qué acciones debe llevar a cabo Brulé para solucionar el ca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¿Qué importancia tiene el anillo de Jade para la resolución del ca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7T13:16:01Z</dcterms:created>
  <dc:creator>usuario-note</dc:creator>
  <dc:description/>
  <dc:language>en-US</dc:language>
  <cp:lastModifiedBy>rodrigo</cp:lastModifiedBy>
  <dcterms:modified xsi:type="dcterms:W3CDTF">2019-05-06T03:19:54Z</dcterms:modified>
  <cp:revision>13</cp:revision>
  <dc:subject/>
  <dc:title>¿Quién mató a Cristián Kustermann?</dc:title>
</cp:coreProperties>
</file>